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1FB6-CC14-4280-B4DD-1A9E48275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DC0D-E5CC-4E1E-ACBE-0DD47BF50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7255-4F18-4211-AD9D-F7E70BC70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38A8-182F-4B8C-BCDA-A1B70943F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86D7-D163-4903-BBC8-F1770054AA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27A3-9F53-4371-844B-0AB5765FB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F372-5BF2-4A59-8932-C716B2F0C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D5A2-F973-47E2-8E96-0501B6BA3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7848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D060-68C6-4D22-AA67-AF4D96F0A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C8B3-8F5F-4CCB-B41D-B170DCF6E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7C30-DA21-47C9-8704-D01176AD8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2BF3-5E2E-46AD-86EC-37571B0DB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453000"/>
            <a:ext cx="813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88000" y="6453000"/>
            <a:ext cx="57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FC3-F4E8-4093-87A9-8F8168881DED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8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 in Visual FoxPro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Christof Wollenhau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xp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-M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373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taten: Visual FoxPro, Konservierungsmittel Registry, MTDLL, Geschmacksverstärker Interprocess Communication (IPC). Achtung: Kann Spuren von C++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ents: Etwas ist passiert, kann gesche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TEX: Exklusiven Zugriff absich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 Mapping: Gemeinsam genutzter Speicherbereich mit einem N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d Pipe: Nachrichten (Befehl) an andere Threads oder Prozesse schi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 Re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Named Pipes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schwer zu te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fallsicherheit h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dlocks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s sauber herunterfa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gistrierung der MTDLL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ch Frage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487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51280" y="1700280"/>
            <a:ext cx="489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ristof.Wollenhaupt@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b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ch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mannsweg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2846 Norderst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le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40 / 682670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ur Pers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lbständiger Entwickler in Norderstedt mit Schwerpunkt Fox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xPro Erfahrung seit FoxPro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Certified Developer (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MVP 1997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95 Artikel im FoxPro Advis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op im CompuServe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mail:Christof.Wollenhaupt@foxpert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ser Vortr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ist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geht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zu brauche ich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://www.foxpert.com/dmult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zu Proze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eateThread() API Fun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T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par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MULT.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lfsbibliothek in Visual C++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rsh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bjektreferenzen überg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ozu, weshalb, wann nich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ngwierige Prozesse in der Oberflä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merer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zubrechende SELECT Ab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 im Voraus 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prüfung auf Änder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ichte dru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ort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ssourcenauslastung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zessübergreifende Kommunik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Aufru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ist wichtig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Ausfüh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lockier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end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parate Insta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munikation auf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PI Objek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n (Local\, Global\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gnalis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tefunk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28:00Z</dcterms:created>
  <dc:creator>Christof Lange</dc:creator>
  <dc:description/>
  <dc:language>en-US</dc:language>
  <cp:lastModifiedBy>Christof</cp:lastModifiedBy>
  <dcterms:modified xsi:type="dcterms:W3CDTF">2005-11-12T08:03:14Z</dcterms:modified>
  <cp:revision>100</cp:revision>
  <dc:subject/>
  <dc:title>D-BIND</dc:title>
</cp:coreProperties>
</file>